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573-8E26-4D27-97F6-76353F31D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97CB-BB82-4646-809B-4A3A50009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orrow Group – Speak up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6227-315A-4E0C-94F6-94D624F34B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1CD-3740-4C56-8A45-6B87214D27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BDF-EAD7-41C5-88EA-0EFD8543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4C5-877F-4BE6-BCBC-A3C36FB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CC4-B37E-457D-A00E-7137EAD3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B11-E6D1-4E9B-A321-1B7CA0EA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14FF-350A-42F0-AC5C-C3BB3D07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609D-D45C-474C-B07D-750880AB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FBC9-7809-4D72-BE6B-136A8CD8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C2A4-CC64-4F9F-B0AA-E945BF94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BC97-03FC-40A7-8753-4ACC899B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EC1C-4B81-4737-A5BD-4AA2EF3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2963-FC65-4667-8C40-EE97941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56E-902B-401F-BA74-CAD87D3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2BAB-9054-4D21-8D3A-BC07F0C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F837-8167-4C37-B514-008A1A17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8E99-14BE-41FA-9A12-75471D4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3CD1-2C75-48DF-9981-7268A962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4670-5D34-456E-9B84-2E5AA138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B4B6-33E7-4604-BC53-71FB4560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A38B-E039-4CA2-AEE5-2C1271C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EA81-D351-4014-9083-22A72E96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2B14-0A68-4FD3-811F-61EF8DE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4505-B326-4D1F-9ADD-0A880C37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28B-91AA-475E-8C11-79BB4EE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68E3-94E0-4FF2-A48D-3850B39D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7623-5DD0-4C38-97C8-28F346B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FA11-075A-4B8E-9805-966F93B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693E-9FC2-46BC-82C7-A39D774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2E81-9B8C-4FA2-8A3D-5E882463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C1B6-79F4-453F-9206-30ADB50B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5A53-5934-4EEE-893D-26765D35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7CD9-9F5C-46C4-B193-73FDF78B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46F0-93DF-474B-BA3F-E826BE0B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A79C-61AE-4E21-BB4E-049D4D44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B5F-9CF3-497A-B4C4-BFFC5D9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7F67-B6F2-4F29-AE67-ACCC662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0F65-4489-4C62-82BB-FED0456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17C5-B467-4B4F-876C-EA3B49D7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81BE-D630-42B4-A005-B82596A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46A4-2347-4550-BD42-20872F7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9FFF-6396-4ED9-BA6B-B2ADEE9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50789-7A68-4C6B-AD39-CF0D970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8C09-4F5B-4016-BA5F-D9CDBC4A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888C-3B91-4EE9-A3F1-D8192306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0289-A1E0-4082-B43C-5B4D6284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00A-F5C2-4331-8BEE-3816DEB6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0BEC-9EFA-40C3-BC89-C40D4BF7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85E6-F996-461D-B0BD-4D26DD5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E912-5643-4E1A-87A9-48B712B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C511-09F0-41EF-87F1-6549FC4C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8E44-9E0F-479A-8A30-CF4AA52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03C8F-41DA-4947-BE3E-7EB7627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6E5E-65A6-41BF-B888-E06215F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195DF-5212-4833-A459-BA25C50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563A-2C95-463B-AA07-63F8303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6A91-9140-45FC-9E1C-0A63A45D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5E9-929B-41EB-B0CD-E42DBC48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121AB-5E26-4D37-9D41-6D74C496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C7B1-7734-4DE7-9D31-C59CD48B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4F79-70BD-4804-AFB2-04337C86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0B58D-CBF4-4D1D-87AA-C0FCECC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F6C0-B2A3-43A4-B2D3-19BA0EC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79A1-B0B2-457F-A10D-4DDD2AA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7A41-D53D-4590-89E6-85156501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F7C7-B08D-435E-B93E-3BFABB0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713C-1C04-47EA-A6A2-FBC4234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260F-4FD6-47AB-9050-F4EDFCF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CEB-0E25-4D43-8FC9-55E7B61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90409-5B4D-4792-81CF-DA43D5E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265F-CB92-4DE9-9770-8DD933D0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263B4-3107-432C-BEBA-166D5EAB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0BE-AFBC-44A9-8140-C36E998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B61-53A9-420E-8C46-13B3BAA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2A68-4754-4552-A021-27E2AB6CECA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C691-B25F-47E1-8CC9-CC7BB338924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>
              <a:gd name="textAreaLeft" fmla="*/ 0 w 3038400"/>
              <a:gd name="textAreaRight" fmla="*/ 3038760 w 30384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2CC-5C1E-4440-979A-26F7FCA13D2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4E5-10BF-4EF0-8AF9-7087171B36C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>
              <a:gd name="textAreaLeft" fmla="*/ 0 w 3038400"/>
              <a:gd name="textAreaRight" fmla="*/ 3038760 w 30384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F156-87D9-4C3F-B073-F4FBA6D8A561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7FD-C010-4717-8556-9EA2AA8D95C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2975-939A-448A-B240-0847A575D561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CFB-36F3-491B-82CF-3DBA6E48E3B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1C7-8412-4153-B001-D4F5BEED34D7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D7BD-D9B3-485B-A876-F0528E4AB92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A86C-5518-40E7-BDAC-1507C64995A6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4B2-686A-431B-88C4-B3E05BF6B4C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2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356-17D4-4341-87D0-C8FF2431974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E5E6-1021-47A1-9A77-31CE65E30AE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752480" y="36576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tudents are Glued to Their Phones – What do I do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 the clicker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eClicke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www.bignerdranch.com/software/mobile/eclick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hone H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hone or Browser cl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or.eclick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1DA-5D09-455D-8576-B3C96CD4826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y Too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1371240"/>
            <a:ext cx="5715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w.studycell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thewords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bile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mobilestudy.org/u/3013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mobilestudy.org/u/3013/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w.mobilestudy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7150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Flashc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ing for compreh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izz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CD40-A1B4-4588-B6E4-8D599ADD6C1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scus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can these tools be used in your classroom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ve you had experience using any of these tool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e there other tools you have used effectivel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8764-043B-4371-B479-31A74955C1D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4" descr=""/>
          <p:cNvPicPr/>
          <p:nvPr/>
        </p:nvPicPr>
        <p:blipFill>
          <a:blip r:embed="rId1"/>
          <a:stretch/>
        </p:blipFill>
        <p:spPr>
          <a:xfrm>
            <a:off x="665280" y="3548160"/>
            <a:ext cx="6649920" cy="1865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D26-66D7-4841-A7A4-5563EDFCC7E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 you want to create a mobile websit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1 – Platform dependent or independ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2 – Which Platform(s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3 – Are you a programm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4 – Are you good with HTML/XM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5 – How much time do you ha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3FF9-8656-45B9-AB3E-D80548A00EF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me Simple Op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ks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nksite.mobi/dkeathly/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winksit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inado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-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ttp://dkeathly.zinadoo.mob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zinadoo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Ubi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dmk.ubik.net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ubik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40BB-5265-40BF-AE52-5B89E353E16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scus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could you use mobile web sites for in your clas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uld the add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ypes of features do you ne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8BB-76CA-4135-B4AD-25AADEDC494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uld I develop an Android App?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!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AppInven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26CE-3B19-4C76-9C5B-DF76622A3D8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2982-2405-40C3-AE05-D45AA92F44D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ea0b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ve education by integrating computing devices into class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in low-cost, sustainable wa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way, leverage devices students carry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going to use them anyway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35C-D43F-48DA-911E-9250FFF5C2E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3B52-65EA-4BEC-AF0B-BCE093AE883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fore We go too fa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has a laptop or Tablet PC with th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has a cell phone or PDA with th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286000" y="38862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371600" y="3505320"/>
            <a:ext cx="716292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Stud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6.1% Cell Ph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.0% Smart Ph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9% P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6.3% Digital Gaming 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.7% Lap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The ECAR Study of Undergraduate Students and Information Technology,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Potential Benefits of Using Cell Phones in Learning According to PARENTS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3% Increases student engagement 41% Prepares students for world of work 38% Extends school day learning 37% Provides access to online textbooks 35% Improves teacher-parent-student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communications 32% Students can review class materials 31% Personalizes instruction 27% Provides way to help struggling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10B-7F3B-42F2-A1A2-11A1A347712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re Cell Phone Access Sta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8% of high school students have a cell phone (31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% of middle school students have a cell phone (25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3% of 3rd through 5th graders have a cell phone (15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8% of K-2nd graders have a cell phone (12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788-DE5B-428A-A2DB-1C8F42D2152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ent Suggestions on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up information on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 or take n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 on projects with classm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ess digital textboo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 videos of class presentations or experi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y educational ga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e with classm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reminders and ale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e school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e with tea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about school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ess social net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e and share documents/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load assignments and work to por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rdinate calend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e/edit bookma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BBE-FA3F-4DEA-B41F-88CBAB0F112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ells Phones vs. Lapto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ll phones, not laptop computers hold the most promise for the spread of one-to-one computing, particularly students with limited resources and especially for students from under-developing nation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Bill G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E5F-44D7-41B0-AD9E-15CD84657CE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F389-8271-4410-B0D4-9F7D6AA4B34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Using the Tools You Already Have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Ph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Brows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teracting in Clas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fit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wifitti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llEveryw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polleverywher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biode polls and survey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2010.mobiode.mo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mobiod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765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informal discussion to engage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polls and surveys to get feedback and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F196-AD32-4393-89F3-605FF4A3A08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5:21:07Z</dcterms:created>
  <dc:creator>cmprince</dc:creator>
  <dc:description/>
  <dc:language>en-US</dc:language>
  <cp:lastModifiedBy>David Keathly</cp:lastModifiedBy>
  <dcterms:modified xsi:type="dcterms:W3CDTF">2011-01-06T05:37:15Z</dcterms:modified>
  <cp:revision>349</cp:revision>
  <dc:subject/>
  <dc:title>Integrating Diverse Student Devices Into the ClassRoom</dc:title>
</cp:coreProperties>
</file>